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2B21-309D-407B-B6C5-EC0A8CA0043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9778-7E28-4DEE-B3C1-42B95A6911A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2099-3E5E-4CBC-B29D-457C404471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6D71-2D94-4E2F-A22A-7F982053E3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3B0-0DB1-434E-87F0-10DE8C4669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5352-73B7-4A63-88DA-FE113263B9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1044-50FF-4AC8-BDE3-DD63EA8ED9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2294-6BD1-4CA8-9DF9-6763E43755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324-AF2D-4588-978B-2AF66C4164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6171-75B9-4CA9-A7FB-D04D65D31A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6B68-24D5-435F-955A-D99C0CE86D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0E17-5564-42B5-B59E-894841420B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5D6E-4EB5-4357-9479-CD5F2DF4B5E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B1E9-98AF-444C-9142-242A926AD06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F2E1-9D0D-4A3F-B19D-E053B8C14A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FFC0-A715-4FBE-9F60-2E856224B3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0BB2-1AAA-425B-A044-7BCCA6C3D1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99E0-FAB3-4620-BEE0-77D849A688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3BA-1C84-4505-962E-42B3C27E6B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8BF-58E1-497B-B7BF-64D6E35A10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85F-7A46-4E5F-A008-3FBA00A34A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BAE-D2D5-46D7-B0C5-149A5E9482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3497-7F0B-4AE4-B238-29FBD1F78D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9C30-1CAD-442A-B4D5-96DA7475C1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E8C-2F68-4A51-96C0-9E8A5D70A6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B28D-F4BD-41AD-ADC2-A43CBE6808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8030-3B6D-443B-A4F5-A0B13E73B8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5365-91AC-4D27-A49C-DE40CBF82F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51EF-62B6-49ED-9980-AC77481F51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AC3E-7022-4702-B486-6D605B2284C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447-2F49-4AB0-B2E7-7AA507A4BB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C157-2CE7-4645-BDA2-6E6290024C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F35A-A4EB-4CA9-92AF-AB9127FD98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00D-B21B-40A7-9051-89B60EC6D4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F96-6D64-48FC-AB9D-AC12449571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C396-3F60-442E-BC62-5FBF37C253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A25-0EB1-4C7D-86BD-083C9116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D56-3086-46B0-B9CA-BDFCA691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FCF-546A-4E7E-9AB7-28780959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75B-F22C-497A-BCCE-B266AB1C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1C9-0C17-4246-9F83-E012D081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B67-2C65-44DC-8F38-0D3FCF6C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561-AF0D-403A-A0CF-D43300D2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D04-50B1-4A22-9FF6-AEBCE22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705-6059-4F1A-9216-1E128D89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117-4A49-458B-9D92-F6D55DD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F6A-CAE7-4C84-86CB-80E10D3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19B-67E2-42D9-BB8D-50616D3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418-9EB4-44E7-B19B-FEF0368B9657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여보세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接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ē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받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끊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보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短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uǎnxì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문자 메시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있다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에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서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哪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ūdià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서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q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50376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diànyǐng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엄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见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iànmià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만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影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260280" y="6805440"/>
            <a:ext cx="6337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diànyǐngyuà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화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69060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túshūguǎ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도서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每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ěi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公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gōngyuá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공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散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àn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산책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바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出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chūq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yóujú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우체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操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āochǎ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운동장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uéxià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门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ménkǒ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입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手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ǒuj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휴대전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号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om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번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duōshǎ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얼마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영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기다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xi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电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diànhu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전화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사용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9076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전화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8000" spc="-1" strike="noStrike">
                <a:solidFill>
                  <a:srgbClr val="000000"/>
                </a:solidFill>
                <a:latin typeface="Arial"/>
              </a:rPr>
              <a:t>걸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4:31:25Z</dcterms:created>
  <dc:creator>System</dc:creator>
  <dc:description/>
  <dc:language>en-US</dc:language>
  <cp:lastModifiedBy>System</cp:lastModifiedBy>
  <dcterms:modified xsi:type="dcterms:W3CDTF">2014-01-24T05:14:10Z</dcterms:modified>
  <cp:revision>5</cp:revision>
  <dc:subject/>
  <dc:title>슬라이드 1</dc:title>
</cp:coreProperties>
</file>